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move the slide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C40CE-E650-4E15-B095-80BCDA94BBF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15AF9-7EE6-4E13-96EC-17F4D0F06B3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F4095-97E2-4560-B2AC-B1BEF575B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6F685-B079-41AB-ACE8-F9AD717F9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28AF1-831F-4CDB-BC2C-38ED47183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40BF4-67DA-4C9C-8A24-F48008DB5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26E7D-9C42-42A1-B67A-06EF3C08A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B235B-B6A6-4882-82D7-A166AA119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C03FC-994C-49E5-8207-C5F209BA8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EC7D6-BA6B-476E-AC79-029AF2796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CC397-0A20-4DCC-B03A-CEDBBA5C1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56E4A-14DA-4523-AB10-8157DBF3E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06FBB-7DDA-4E09-B0AE-A563633F5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EA4CE-1657-418E-A5DC-687325487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6F424-1AE2-423B-B358-C316274E8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0A4E3-81A6-49F8-BBB0-DB01F7333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4F4D2-EAE1-4EF5-9D87-8CF72FA81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FF26B-FBA6-4792-9111-4B1A0B6A0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7E03B-C251-424D-9BA9-189241BA4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DADB1C-CD65-48D4-9097-22FC3F42F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F19621-E8DC-4B7B-9DE2-E94FF23AC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4CCCB9-37CF-4676-A36E-3C6516752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CC974E-1EF1-49B3-BA6B-2EDBC0010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233A03-7D05-4D56-8EC9-0B07A51AC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4FE3F-6733-4D48-A5EF-D289DB2CA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5E4A96-EE9E-4800-8B2F-3177766D9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75C146-7292-49CC-8746-E83B93403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DAB320-9B7A-44C9-A2FD-6FE61FAFC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F3F340-6F85-4724-AD8E-485034F33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C1DB43-E70D-44AB-BBEF-B31EFFCF7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11A21D-5194-44DF-A46B-66A1E76B5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9973E8-346C-4E92-BECE-9A3E07299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9D8635-31BC-442C-B896-5204E18E3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167F33-EAF6-4F32-859B-7B174B9AC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D01425-40CC-4C03-ACB8-2150A5342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6619B-F657-42B7-A2E3-EDEEC2C72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16ED13-D005-4ABB-9D30-8B605705B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007D07-9DEF-4D53-A8E8-C5004FE3D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7A2CCD-489E-42A0-B997-FE674786B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F63B92-E8A1-4830-A306-7669F6252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C940F3-561A-4DB4-A1AD-EAFCA6E55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AC371D-BD7C-4BB2-991B-E4009005A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AD1FC9-031D-4AAF-9FD8-6B0995631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1922E4-35DB-4C0A-A00A-35B0AC5D7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6D87FE-DF56-4281-808A-995A31B9D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8F1E3B-56BC-4CCB-8DC3-6D46CD8C7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04761-0900-474E-808C-21D3724A5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866BBF-0577-4C0D-A85E-822C7652F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57830C-6721-405B-B956-9A65486A6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0D65A6-CFE8-470B-A5A7-F0D2500BB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3EC900-FB08-4A7C-8DE9-1CF1BE29A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E714F8-3F53-41E4-B3E0-6AA9CF19B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1B754D-FEB7-4E6A-81E0-F5CBDEBD2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6C9FFB-06DA-40FD-840A-FBF0EC0C6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315B8A-5F9F-43EC-A82A-0999CB7A0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98805B-6737-4D0E-A87F-0BBD51B6E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71249D-4488-49DF-A08C-8CE03CE49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8BCB9-A86D-4714-A58F-ABA063C50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794AC8-9599-42EC-B523-926449E17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A28F9-7643-4DB6-A90C-1EBA92924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69F29-6E82-4D12-B72C-7D578F8B9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B4C4D-6387-45E1-A1F4-A5EB7DBEA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C7148-C4F9-4DBE-B4E4-E230DDE18BDF}" type="slidenum">
              <a:rPr b="0" lang="fr-F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ounded Rectangle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4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4AD22-1D0D-40B4-A4BC-AE91FEDA9A79}" type="slidenum">
              <a:rPr b="0" lang="fr-F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Rounded Rectangle 10"/>
          <p:cNvGrpSpPr/>
          <p:nvPr/>
        </p:nvGrpSpPr>
        <p:grpSpPr>
          <a:xfrm>
            <a:off x="66600" y="66600"/>
            <a:ext cx="9016920" cy="6699240"/>
            <a:chOff x="66600" y="66600"/>
            <a:chExt cx="9016920" cy="6699240"/>
          </a:xfrm>
        </p:grpSpPr>
        <p:pic>
          <p:nvPicPr>
            <p:cNvPr id="91" name="Rounded Rectangle 10" descr=""/>
            <p:cNvPicPr/>
            <p:nvPr/>
          </p:nvPicPr>
          <p:blipFill>
            <a:blip r:embed="rId3"/>
            <a:stretch/>
          </p:blipFill>
          <p:spPr>
            <a:xfrm>
              <a:off x="66600" y="66600"/>
              <a:ext cx="9016920" cy="669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Rectangle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4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5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E38F9-FA92-415E-BDB4-6AE7BD6FF5F5}" type="slidenum">
              <a:rPr b="0" lang="fr-F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ounded Rectangle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F32E5-85C7-44DF-A193-574A01C843FB}" type="slidenum">
              <a:rPr b="0" lang="fr-F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E0BCC-CC4D-4EB2-9ADC-05EFD30BBC33}" type="slidenum">
              <a:rPr b="0" lang="fr-F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Slide Number Placeholder 5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41CA4-FF46-441F-A816-18415AA4D8DD}" type="slidenum">
              <a:rPr b="0" lang="fr-F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4"/>
          <p:cNvSpPr/>
          <p:nvPr/>
        </p:nvSpPr>
        <p:spPr>
          <a:xfrm>
            <a:off x="395280" y="1666800"/>
            <a:ext cx="8497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Arial"/>
              </a:rPr>
              <a:t>Comment faire adorer le Français aux enfants de 5 à 10 ans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6000" spc="-1" strike="noStrike">
                <a:solidFill>
                  <a:srgbClr val="000000"/>
                </a:solidFill>
                <a:latin typeface="Perpetua"/>
              </a:rPr>
              <a:t>Merci!</a:t>
            </a:r>
            <a:endParaRPr b="0" lang="en-US" sz="60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0" name="Slide Number Placeholder 3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BC994-59DE-4E07-B648-0749819137B5}" type="slidenum">
              <a:rPr b="0" lang="fr-F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696464"/>
                </a:solidFill>
                <a:latin typeface="Franklin Gothic Book"/>
              </a:rPr>
              <a:t>Sommaire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8" name="Slide Number Placeholder 5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6F6E6-EDF3-4CC1-BF16-4280058E5678}" type="slidenum">
              <a:rPr b="0" lang="fr-F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Perpetua"/>
              </a:rPr>
              <a:t>Public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Perpetua"/>
              </a:rPr>
              <a:t>Comment se déroule une séance de la Petite École?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Perpetua"/>
              </a:rPr>
              <a:t>Jeux et chansons par thème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Perpetua"/>
              </a:rPr>
              <a:t>Supports pour l’apprentissage par l’écrit et la lecture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696464"/>
                </a:solidFill>
                <a:latin typeface="Franklin Gothic Book"/>
              </a:rPr>
              <a:t>Public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1" name="Slide Number Placeholder 5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73D3E-5612-422E-B649-B76E1C8D136B}" type="slidenum">
              <a:rPr b="0" lang="fr-F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just"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Perpetua"/>
              </a:rPr>
              <a:t>Nécessité d’une approche pédagogique indépendante de la grammaire et conjugais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Perpetua"/>
              </a:rPr>
              <a:t>Importance de la variété des activité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Perpetua"/>
              </a:rPr>
              <a:t>Thèmes récurrent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Perpetua"/>
              </a:rPr>
              <a:t>Attitude vis-à-vis de la langue étrangèr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696464"/>
                </a:solidFill>
                <a:latin typeface="Franklin Gothic Book"/>
              </a:rPr>
              <a:t>Une séance typique de la Petite École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4" name="Slide Number Placeholder 5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705C5-F17B-444F-8057-F95369614CFE}" type="slidenum">
              <a:rPr b="0" lang="fr-F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57200" y="1125360"/>
            <a:ext cx="8229600" cy="532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7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1/ Accueil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399960">
              <a:lnSpc>
                <a:spcPct val="7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Perpetua"/>
              </a:rPr>
              <a:t>Bonjour!  </a:t>
            </a: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  <a:p>
            <a:pPr lvl="1" marL="399960">
              <a:lnSpc>
                <a:spcPct val="7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Perpetua"/>
              </a:rPr>
              <a:t>Comment ça va? </a:t>
            </a: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  <a:p>
            <a:pPr lvl="1" marL="399960">
              <a:lnSpc>
                <a:spcPct val="7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Perpetua"/>
              </a:rPr>
              <a:t>Je suis là. Il/Elle n’est pas là.</a:t>
            </a: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  <a:p>
            <a:pPr lvl="1" marL="399960">
              <a:lnSpc>
                <a:spcPct val="7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Perpetua"/>
              </a:rPr>
              <a:t>Date et Météo</a:t>
            </a: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7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7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2/ La ronde des questions: révisions et introduction d’une nouvelle question et réponse.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7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7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3/Sujet du jour: Écouter, Répéter, Repérer, Lire, Écrire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399960">
              <a:lnSpc>
                <a:spcPct val="7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Perpet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Perpetua"/>
              </a:rPr>
              <a:t>La famille</a:t>
            </a: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  <a:p>
            <a:pPr lvl="1" marL="399960">
              <a:lnSpc>
                <a:spcPct val="7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Perpet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Perpetua"/>
              </a:rPr>
              <a:t>Les adjectifs</a:t>
            </a: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  <a:p>
            <a:pPr lvl="1" marL="399960">
              <a:lnSpc>
                <a:spcPct val="7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Perpet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Perpetua"/>
              </a:rPr>
              <a:t>Les couleurs</a:t>
            </a: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  <a:p>
            <a:pPr lvl="1" marL="399960">
              <a:lnSpc>
                <a:spcPct val="7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Perpet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Perpetua"/>
              </a:rPr>
              <a:t>Jours de la semaine et mois de l’année</a:t>
            </a: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  <a:p>
            <a:pPr lvl="1" marL="399960">
              <a:lnSpc>
                <a:spcPct val="7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Perpet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Perpetua"/>
              </a:rPr>
              <a:t>Chiffres</a:t>
            </a: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  <a:p>
            <a:pPr lvl="1" marL="399960">
              <a:lnSpc>
                <a:spcPct val="7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Perpet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Perpetua"/>
              </a:rPr>
              <a:t>Aliments</a:t>
            </a: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  <a:p>
            <a:pPr lvl="1" marL="399960">
              <a:lnSpc>
                <a:spcPct val="7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Perpet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Perpetua"/>
              </a:rPr>
              <a:t>Etc….</a:t>
            </a: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  <a:p>
            <a:pPr lvl="1" marL="399960">
              <a:lnSpc>
                <a:spcPct val="7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7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4/Jeu, activité motrice 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7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7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5/ Histoire ou Chanson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696464"/>
                </a:solidFill>
                <a:latin typeface="Franklin Gothic Book"/>
              </a:rPr>
              <a:t>Jeux et chansons 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7" name="Slide Number Placeholder 5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22A04-C09F-488A-A166-B94254C21F01}" type="slidenum">
              <a:rPr b="0" lang="fr-F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just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Perpetua"/>
              </a:rPr>
              <a:t>La famille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just">
              <a:lnSpc>
                <a:spcPct val="8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Perpet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0000"/>
                </a:solidFill>
                <a:latin typeface="Perpetua"/>
              </a:rPr>
              <a:t>Exercice interactif</a:t>
            </a:r>
            <a:endParaRPr b="0" lang="en-US" sz="19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just">
              <a:lnSpc>
                <a:spcPct val="8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Perpet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0000"/>
                </a:solidFill>
                <a:latin typeface="Perpetua"/>
              </a:rPr>
              <a:t>Language Tree</a:t>
            </a:r>
            <a:endParaRPr b="0" lang="en-US" sz="19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just">
              <a:lnSpc>
                <a:spcPct val="8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Perpet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0000"/>
                </a:solidFill>
                <a:latin typeface="Perpetua"/>
              </a:rPr>
              <a:t>Arbre généalogique</a:t>
            </a:r>
            <a:endParaRPr b="0" lang="en-US" sz="19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Perpetua"/>
              </a:rPr>
              <a:t>Les adjectifs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just">
              <a:lnSpc>
                <a:spcPct val="8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Perpet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0000"/>
                </a:solidFill>
                <a:latin typeface="Perpetua"/>
              </a:rPr>
              <a:t>1, 2, 3 Soleil</a:t>
            </a:r>
            <a:endParaRPr b="0" lang="en-US" sz="19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just">
              <a:lnSpc>
                <a:spcPct val="8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Perpet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0000"/>
                </a:solidFill>
                <a:latin typeface="Perpetua"/>
              </a:rPr>
              <a:t>Flashcards</a:t>
            </a:r>
            <a:endParaRPr b="0" lang="en-US" sz="19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Perpetua"/>
              </a:rPr>
              <a:t>Les couleurs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just">
              <a:lnSpc>
                <a:spcPct val="8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Perpet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0000"/>
                </a:solidFill>
                <a:latin typeface="Perpetua"/>
              </a:rPr>
              <a:t>Ligne des couleurs ou ‘Attention Tempête en mer’</a:t>
            </a:r>
            <a:endParaRPr b="0" lang="en-US" sz="19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just">
              <a:lnSpc>
                <a:spcPct val="8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Perpet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0000"/>
                </a:solidFill>
                <a:latin typeface="Perpetua"/>
              </a:rPr>
              <a:t>À la chasse au… ‘bleu’!</a:t>
            </a:r>
            <a:endParaRPr b="0" lang="en-US" sz="19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just">
              <a:lnSpc>
                <a:spcPct val="8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Perpet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0000"/>
                </a:solidFill>
                <a:latin typeface="Perpetua"/>
              </a:rPr>
              <a:t>Coloriage, peinture</a:t>
            </a:r>
            <a:endParaRPr b="0" lang="en-US" sz="19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just">
              <a:lnSpc>
                <a:spcPct val="8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Perpet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0000"/>
                </a:solidFill>
                <a:latin typeface="Perpetua"/>
              </a:rPr>
              <a:t>Twister</a:t>
            </a:r>
            <a:endParaRPr b="0" lang="en-US" sz="19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Slide Number Placeholder 5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4394B-2F6D-4FC6-B6A5-344D9D5A04FE}" type="slidenum">
              <a:rPr b="0" lang="fr-F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68360" y="188640"/>
            <a:ext cx="822960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Perpetua"/>
              </a:rPr>
              <a:t>Les chiffre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Perpet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Perpetua"/>
              </a:rPr>
              <a:t>Poissons-pêcheur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Perpet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Perpetua"/>
              </a:rPr>
              <a:t>‘</a:t>
            </a:r>
            <a:r>
              <a:rPr b="0" lang="fr-FR" sz="2400" spc="-1" strike="noStrike">
                <a:solidFill>
                  <a:srgbClr val="000000"/>
                </a:solidFill>
                <a:latin typeface="Perpetua"/>
              </a:rPr>
              <a:t>1, 2, 3 j’irai dans les bois’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Perpet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Perpetua"/>
              </a:rPr>
              <a:t>Trouver nombre d’objets sur un dessin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Perpetua"/>
              </a:rPr>
              <a:t>Les jours de la semain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Perpet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Perpetua"/>
              </a:rPr>
              <a:t>Ronde de la semain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Perpet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Perpetua"/>
              </a:rPr>
              <a:t>‘</a:t>
            </a:r>
            <a:r>
              <a:rPr b="0" lang="fr-FR" sz="2400" spc="-1" strike="noStrike">
                <a:solidFill>
                  <a:srgbClr val="000000"/>
                </a:solidFill>
                <a:latin typeface="Perpetua"/>
              </a:rPr>
              <a:t>Lundi matin…’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Perpetua"/>
              </a:rPr>
              <a:t>Les animaux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Perpet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Perpetua"/>
              </a:rPr>
              <a:t>Mémo des animaux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Perpet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Perpetua"/>
              </a:rPr>
              <a:t>‘</a:t>
            </a:r>
            <a:r>
              <a:rPr b="0" lang="fr-FR" sz="2400" spc="-1" strike="noStrike">
                <a:solidFill>
                  <a:srgbClr val="000000"/>
                </a:solidFill>
                <a:latin typeface="Perpetua"/>
              </a:rPr>
              <a:t>L’araignée Gipsy’, ‘Nage, nage petit poisson’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Slide Number Placeholder 5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89BF1-1CF7-446C-A55B-227D614B38CD}" type="slidenum">
              <a:rPr b="0" lang="fr-F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39528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just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Perpetua"/>
              </a:rPr>
              <a:t>Les objets, les aliment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just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Perpet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Perpetua"/>
              </a:rPr>
              <a:t>Flashcards, compétition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just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Perpet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Perpetua"/>
              </a:rPr>
              <a:t>‘</a:t>
            </a:r>
            <a:r>
              <a:rPr b="0" lang="fr-FR" sz="2400" spc="-1" strike="noStrike">
                <a:solidFill>
                  <a:srgbClr val="000000"/>
                </a:solidFill>
                <a:latin typeface="Perpetua"/>
              </a:rPr>
              <a:t>Au clair de lune, tous les légumes’, ‘C’est un petit bonhomme’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just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Perpet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Perpetua"/>
              </a:rPr>
              <a:t>Loto de la maison (et prépositions de lieu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just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Perpet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Perpetua"/>
              </a:rPr>
              <a:t>Les vêtement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just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Perpet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Perpetua"/>
              </a:rPr>
              <a:t>‘</a:t>
            </a:r>
            <a:r>
              <a:rPr b="0" lang="fr-FR" sz="2400" spc="-1" strike="noStrike">
                <a:solidFill>
                  <a:srgbClr val="000000"/>
                </a:solidFill>
                <a:latin typeface="Perpetua"/>
              </a:rPr>
              <a:t>Loup y es-tu?’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just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Perpet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Perpetua"/>
              </a:rPr>
              <a:t>Attention tempête en mer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just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Perpetua"/>
              </a:rPr>
              <a:t>Le corp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just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Perpet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Perpetua"/>
              </a:rPr>
              <a:t>Jacques a dit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just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Perpet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Perpetua"/>
              </a:rPr>
              <a:t>Exercice interactif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just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Perpet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Perpetua"/>
              </a:rPr>
              <a:t>Twister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just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Perpet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just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Perpet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696464"/>
                </a:solidFill>
                <a:latin typeface="Franklin Gothic Book"/>
              </a:rPr>
              <a:t>Autres jeux et chanson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 rot="16200000">
            <a:off x="2340000" y="-98280"/>
            <a:ext cx="4608360" cy="79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Perpetua"/>
              </a:rPr>
              <a:t>Sauter, tourner, marcher en musiqu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Perpetua"/>
              </a:rPr>
              <a:t>Mon petit lapi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Perpetua"/>
              </a:rPr>
              <a:t>Qui-est-ce?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Perpetua"/>
              </a:rPr>
              <a:t>Sur le pont d’Avign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Perpetua"/>
              </a:rPr>
              <a:t>Pirouette, Cacahuèt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Perpetua"/>
              </a:rPr>
              <a:t>Etc…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5" name="Slide Number Placeholder 3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ED008-1964-4345-9E7E-ACCBFCDA0374}" type="slidenum">
              <a:rPr b="0" lang="fr-F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696464"/>
                </a:solidFill>
                <a:latin typeface="Franklin Gothic Book"/>
              </a:rPr>
              <a:t>Supports pour la lecture et l’écriture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Perpetua"/>
              </a:rPr>
              <a:t>Enchanted Learning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Perpetua"/>
              </a:rPr>
              <a:t>Learning French – Débutant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Perpetua"/>
              </a:rPr>
              <a:t>Mes premiers pas en Françai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8" name="Slide Number Placeholder 3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90595-CF84-4A5C-841A-ED7E3DE915E7}" type="slidenum">
              <a:rPr b="0" lang="fr-F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30T07:58:17Z</dcterms:created>
  <dc:creator>TXPB0017</dc:creator>
  <dc:description/>
  <dc:language>en-US</dc:language>
  <cp:lastModifiedBy>Owen</cp:lastModifiedBy>
  <dcterms:modified xsi:type="dcterms:W3CDTF">2011-08-31T11:37:50Z</dcterms:modified>
  <cp:revision>8</cp:revision>
  <dc:subject/>
  <dc:title>Projet de Camille Potoudis "Sortie"</dc:title>
</cp:coreProperties>
</file>